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7.png" ContentType="image/png"/>
  <Override PartName="/ppt/media/image8.png" ContentType="image/png"/>
  <Override PartName="/ppt/media/image9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19CA4-48C9-409A-943D-31F9F7DB0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4719B-4DE4-498D-8F43-F0B2905EB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7E122-39EB-4E74-AC9C-AB968FB11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A0425-8CBA-4685-BC06-F906AF05F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04773-9170-4A55-BDD4-8D4A8F7E3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E5597-64BE-4410-9587-A4282EE96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27A58-DD6C-4DE3-9009-D1CEE8FEA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2FFA1-C4A1-49B7-B107-39EC90F9A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6B6FA-3C11-4946-B7CA-AEC930A3F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C2F5B-7359-43E9-AC24-7070F011D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DEACE-1C32-4F0B-97D1-92EC8B6A5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3385E-6A76-42E5-A9A6-7505FD96D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5EFBD-E268-4912-96B3-B13BE48577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43800" cy="10666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43800" y="1066680"/>
            <a:ext cx="1600200" cy="57913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7924680" y="228600"/>
            <a:ext cx="762120" cy="4413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7772400" y="76212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etty cheap train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324480" y="6400800"/>
            <a:ext cx="2210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2008, Bob Wild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04920" y="304920"/>
            <a:ext cx="502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 and Continu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96080" y="198108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ntuition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676520"/>
            <a:ext cx="63244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33520" y="1371600"/>
            <a:ext cx="6553080" cy="52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i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xist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or n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►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f they exist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may know what they 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may 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►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f they do NOT exist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may know th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may not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514600" y="6248520"/>
            <a:ext cx="3657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447920" y="1905120"/>
            <a:ext cx="175248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343400" y="1905120"/>
            <a:ext cx="160020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5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" dur="2000" fill="hold"/>
                                        <p:tgtEl>
                                          <p:spTgt spid="5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0" y="0"/>
            <a:ext cx="7543800" cy="10666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543800" y="1066680"/>
            <a:ext cx="1600200" cy="57913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7924680" y="228600"/>
            <a:ext cx="762120" cy="44136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7772400" y="76212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etty cheap train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324480" y="6400800"/>
            <a:ext cx="2210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2008, Bob Wild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04920" y="304920"/>
            <a:ext cx="502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 and Continu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696080" y="198108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Limits 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33520" y="1676520"/>
            <a:ext cx="63244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33520" y="1371600"/>
            <a:ext cx="6553080" cy="50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you need to know – AP 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►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ubstitut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►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Rational Funct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- Factor! (eliminate 0/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- Divide by highest degree x ter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►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iecewise Function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left side vs. right sid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►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Radic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- rationaliz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- multiply by ‘conjugate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► “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Rational Radicals to infinity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watch |x| and sig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►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rig identiti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514600" y="6248520"/>
            <a:ext cx="3657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0" y="0"/>
            <a:ext cx="7543800" cy="10666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543800" y="1066680"/>
            <a:ext cx="1600200" cy="57913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7924680" y="228600"/>
            <a:ext cx="762120" cy="44136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7772400" y="76212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etty cheap train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324480" y="6400800"/>
            <a:ext cx="2210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2008, Bob Wild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04920" y="304920"/>
            <a:ext cx="502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 and Continu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696080" y="198108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Limits 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33520" y="1676520"/>
            <a:ext cx="63244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33520" y="1219320"/>
            <a:ext cx="6553080" cy="48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mits – things to keep in mi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►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lynomials taught us everything we feel is “right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►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cept for the (*&amp;%$&amp; denominator, you could say the same about rational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►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One-sided vs. two-sided lim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►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Limits at infinity (end behavio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►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Remembe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 don’t be afra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►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o not manipulate infinity like it’s a 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 respectful of the subtle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514600" y="6248520"/>
            <a:ext cx="3657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1600200" y="1828800"/>
            <a:ext cx="3057480" cy="1000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0477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Polynomials R*O*C*K*!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209680" y="4724280"/>
          <a:ext cx="9753840" cy="5590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09680" y="4724280"/>
                    <a:ext cx="9753840" cy="55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0" y="0"/>
            <a:ext cx="7543800" cy="10666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543800" y="1066680"/>
            <a:ext cx="1600200" cy="57913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7924680" y="228600"/>
            <a:ext cx="762120" cy="44136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7772400" y="76212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etty cheap train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324480" y="6400800"/>
            <a:ext cx="2210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2008, Bob Wild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04920" y="304920"/>
            <a:ext cx="502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 and Continu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696080" y="198108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Limits 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33520" y="1676520"/>
            <a:ext cx="63244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295280"/>
            <a:ext cx="6553080" cy="50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mits – how to calculate them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►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ubstitut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every continuous functio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whatever that mea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►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Rational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numerator, denominator not 0  =&gt;  see substitut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numerator not 0; denominator 0 =&gt;  unboun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numerator AND denominator 0 =&gt; try to fa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canc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514600" y="6248520"/>
            <a:ext cx="3657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1981080" y="2514600"/>
                <a:ext cx="172080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a</m:t>
                        </m:r>
                      </m:lim>
                    </m:limLow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0" y="0"/>
            <a:ext cx="7543800" cy="10666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543800" y="1066680"/>
            <a:ext cx="1600200" cy="57913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7924680" y="228600"/>
            <a:ext cx="762120" cy="44136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7772400" y="76212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etty cheap train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324480" y="6400800"/>
            <a:ext cx="2210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2008, Bob Wild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04920" y="304920"/>
            <a:ext cx="502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 and Continu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696080" y="198108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Limits 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33520" y="1676520"/>
            <a:ext cx="63244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33520" y="1295280"/>
            <a:ext cx="6553080" cy="41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mits – how to calculate them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►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iecewise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es limit from right = limit from lef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►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Radic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ost common problem is of the for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inity – infi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y – Multiply top and bottom by conjug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a fraction first if necess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514600" y="6248520"/>
            <a:ext cx="3657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0" y="0"/>
            <a:ext cx="7543800" cy="10666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543800" y="1066680"/>
            <a:ext cx="1600200" cy="57913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7924680" y="228600"/>
            <a:ext cx="762120" cy="44136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7772400" y="76212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etty cheap train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324480" y="6400800"/>
            <a:ext cx="2210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2008, Bob Wild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04920" y="304920"/>
            <a:ext cx="502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 and Continu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696080" y="198108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Limits 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33520" y="1676520"/>
            <a:ext cx="63244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33520" y="1295280"/>
            <a:ext cx="6553080" cy="49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mits – how to calculate them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►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Rational Functions to Infi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technique is to divide the top and bot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 ‘variable to the highest degree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ea: all but 1 or 2 pieces go to zero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►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Rational Radicals to Infinity (bob-is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times conjugates 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ually you incorporate dividing by same th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BUT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member that you leave the sign outside w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bring things under the radical 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514600" y="6248520"/>
            <a:ext cx="3657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696080" y="5410080"/>
            <a:ext cx="1447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Lim to negative infi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0" y="0"/>
            <a:ext cx="7543800" cy="10666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7543800" y="1066680"/>
            <a:ext cx="1600200" cy="57913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7924680" y="228600"/>
            <a:ext cx="762120" cy="44136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7772400" y="76212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etty cheap train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324480" y="6400800"/>
            <a:ext cx="2210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2008, Bob Wild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04920" y="304920"/>
            <a:ext cx="502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 and Continu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696080" y="198108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nice proper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33520" y="1676520"/>
            <a:ext cx="63244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33520" y="1295280"/>
            <a:ext cx="6553080" cy="456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inuit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►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finition is critically 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5% of AP tes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function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continuous at point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x=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i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&gt;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defined at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x=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f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14600" y="6248520"/>
            <a:ext cx="3657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1219320" y="3048120"/>
                <a:ext cx="11174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a</m:t>
                        </m:r>
                      </m:lim>
                    </m:limLow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1295280" y="4800600"/>
                <a:ext cx="1117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a</m:t>
                        </m:r>
                      </m:lim>
                    </m:limLow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1" name=""/>
          <p:cNvSpPr/>
          <p:nvPr/>
        </p:nvSpPr>
        <p:spPr>
          <a:xfrm>
            <a:off x="7696080" y="4114800"/>
            <a:ext cx="1447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eed all 3 conditions (why?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0"/>
            <a:ext cx="7543800" cy="10666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43800" y="1066680"/>
            <a:ext cx="1600200" cy="57913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7924680" y="228600"/>
            <a:ext cx="762120" cy="44136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7772400" y="76212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etty cheap train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324480" y="6400800"/>
            <a:ext cx="2210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2008, Bob Wild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04920" y="304920"/>
            <a:ext cx="502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 and Continu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33520" y="1676520"/>
            <a:ext cx="63244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33520" y="1295280"/>
            <a:ext cx="6553080" cy="432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inuit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►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gorous definition of limi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and continuity) was a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tremely 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►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what I remember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difficult problems ar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functions define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iecewi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need to find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lue of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hat makes func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inu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514600" y="6248520"/>
            <a:ext cx="3657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0" y="0"/>
            <a:ext cx="7543800" cy="10666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7543800" y="1066680"/>
            <a:ext cx="1600200" cy="57913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7924680" y="228600"/>
            <a:ext cx="762120" cy="44136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7772400" y="76212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etty cheap train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324480" y="6400800"/>
            <a:ext cx="2210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2008, Bob Wild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04920" y="304920"/>
            <a:ext cx="502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 and Continu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33520" y="1676520"/>
            <a:ext cx="63244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33520" y="1295280"/>
            <a:ext cx="6553080" cy="48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igonometric stu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►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gotta know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►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x is in radi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►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follows tha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►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gotta know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in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+ cos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514600" y="6248520"/>
            <a:ext cx="3657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696080" y="4114800"/>
            <a:ext cx="1447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1384200" y="2695680"/>
                <a:ext cx="1702080" cy="85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2425680" y="4495680"/>
                <a:ext cx="218448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0"/>
            <a:ext cx="7543800" cy="10666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543800" y="1066680"/>
            <a:ext cx="1600200" cy="57913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7924680" y="228600"/>
            <a:ext cx="762120" cy="4413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7772400" y="76212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etty cheap train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324480" y="6400800"/>
            <a:ext cx="2210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2008, Bob Wild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04920" y="304920"/>
            <a:ext cx="502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 and Continu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696080" y="198108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o Limit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33520" y="1676520"/>
            <a:ext cx="63244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33520" y="1219320"/>
            <a:ext cx="6553080" cy="54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mits don’t ex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►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f there is a ‘jump discontinuity’ (pit?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ft sided limit and right sided limit uneq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►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f there is a vertical asymptote (wal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bounded behavi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►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f there is an oscillation (boing boi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 doesn’t get close to anything (and stay ther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►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f end behavior tends to               (zoom!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bounded behavi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►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ote that removable discontinuities have lim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erywher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514600" y="6248520"/>
            <a:ext cx="3657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3581280" y="4572000"/>
                <a:ext cx="68580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±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0"/>
            <a:ext cx="7543800" cy="10666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066680"/>
            <a:ext cx="1600200" cy="57913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7924680" y="228600"/>
            <a:ext cx="762120" cy="4413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7772400" y="76212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etty cheap train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324480" y="6400800"/>
            <a:ext cx="2210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2008, Bob Wild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04920" y="304920"/>
            <a:ext cx="502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 and Continu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696080" y="198108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o Limit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1676520"/>
            <a:ext cx="63244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33520" y="1371600"/>
            <a:ext cx="6553080" cy="16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mits don’t ex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►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f there is a ‘jump discontinuity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514600" y="6248520"/>
            <a:ext cx="3657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838080" y="2819520"/>
            <a:ext cx="3124440" cy="265896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4191120" y="2895480"/>
            <a:ext cx="249084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7543800" cy="10666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543800" y="1066680"/>
            <a:ext cx="1600200" cy="57913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7924680" y="228600"/>
            <a:ext cx="762120" cy="44136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7772400" y="76212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etty cheap train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324480" y="6400800"/>
            <a:ext cx="2210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2008, Bob Wild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04920" y="304920"/>
            <a:ext cx="502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 and Continu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696080" y="198108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o Limit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33520" y="1676520"/>
            <a:ext cx="63244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33520" y="1371600"/>
            <a:ext cx="6553080" cy="16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mits don’t ex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►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f there is a vertical asymptote (wal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514600" y="6248520"/>
            <a:ext cx="3657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2133720" y="2819520"/>
            <a:ext cx="3562200" cy="30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7543800" cy="10666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543800" y="1066680"/>
            <a:ext cx="1600200" cy="57913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7924680" y="228600"/>
            <a:ext cx="762120" cy="44136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772400" y="76212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etty cheap train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324480" y="6400800"/>
            <a:ext cx="2210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2008, Bob Wild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04920" y="304920"/>
            <a:ext cx="502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 and Continu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696080" y="198108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o Limit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33520" y="1676520"/>
            <a:ext cx="63244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33520" y="1371600"/>
            <a:ext cx="6553080" cy="16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mits don’t ex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►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f there is an oscillation (boing boi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514600" y="6248520"/>
            <a:ext cx="3657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838080" y="2743200"/>
            <a:ext cx="3011760" cy="30481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038480" y="2743200"/>
            <a:ext cx="3276720" cy="30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7543800" cy="10666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43800" y="1066680"/>
            <a:ext cx="1600200" cy="57913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7924680" y="228600"/>
            <a:ext cx="762120" cy="44136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7772400" y="76212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etty cheap train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324480" y="6400800"/>
            <a:ext cx="2210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2008, Bob Wild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04920" y="304920"/>
            <a:ext cx="502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 and Continu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696080" y="198108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o Limit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33520" y="1676520"/>
            <a:ext cx="63244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33520" y="1371600"/>
            <a:ext cx="6553080" cy="16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mits don’t ex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►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f end behavior tends to               (zoom!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14600" y="6248520"/>
            <a:ext cx="3657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3657600" y="2209680"/>
                <a:ext cx="68580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±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2438280" y="2895480"/>
            <a:ext cx="2990880" cy="29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0"/>
            <a:ext cx="7543800" cy="10666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543800" y="1066680"/>
            <a:ext cx="1600200" cy="57913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7924680" y="228600"/>
            <a:ext cx="762120" cy="4413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7772400" y="76212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etty cheap train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324480" y="6400800"/>
            <a:ext cx="2210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2008, Bob Wild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04920" y="304920"/>
            <a:ext cx="502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 and Continu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696080" y="198108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o Limit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33520" y="1676520"/>
            <a:ext cx="63244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520" y="1371600"/>
            <a:ext cx="6553080" cy="16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mits don’t ex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►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ote that removable discontinuities have lim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514600" y="6248520"/>
            <a:ext cx="3657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1981080" y="2819520"/>
            <a:ext cx="3619800" cy="30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7543800" cy="10666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543800" y="1066680"/>
            <a:ext cx="1600200" cy="57913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7924680" y="228600"/>
            <a:ext cx="762120" cy="4413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7772400" y="76212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etty cheap train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324480" y="6400800"/>
            <a:ext cx="2210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2008, Bob Wild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920"/>
            <a:ext cx="502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 and Continu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696080" y="198108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Limits 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33520" y="1676520"/>
            <a:ext cx="63244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33520" y="1371600"/>
            <a:ext cx="6553080" cy="41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mits that ex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►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iscovery pha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phica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a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y other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►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Verific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times it’s just diffic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514600" y="6248520"/>
            <a:ext cx="3657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0"/>
            <a:ext cx="7543800" cy="10666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543800" y="1066680"/>
            <a:ext cx="1600200" cy="57913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7924680" y="228600"/>
            <a:ext cx="762120" cy="44136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7772400" y="76212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etty cheap train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324480" y="6400800"/>
            <a:ext cx="2210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2008, Bob Wild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04920" y="304920"/>
            <a:ext cx="502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 and Continu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696080" y="198108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Limits 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33520" y="1676520"/>
            <a:ext cx="63244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33520" y="1371600"/>
            <a:ext cx="6553080" cy="16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lculating lim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►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Basic ru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514600" y="6248520"/>
            <a:ext cx="3657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1295280" y="2590920"/>
          <a:ext cx="9906120" cy="35510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95280" y="2590920"/>
                    <a:ext cx="9906120" cy="355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1T10:43:39Z</dcterms:created>
  <dc:creator>Bob Wilder</dc:creator>
  <dc:description/>
  <dc:language>en-US</dc:language>
  <cp:lastModifiedBy>Bob Wilder</cp:lastModifiedBy>
  <dcterms:modified xsi:type="dcterms:W3CDTF">2009-08-30T04:01:42Z</dcterms:modified>
  <cp:revision>31</cp:revision>
  <dc:subject/>
  <dc:title>Slide 1</dc:title>
</cp:coreProperties>
</file>